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520-41F9-460A-8D5F-6EACF544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651-A3BA-4235-B40F-2410523D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FA0-9A67-4BA3-8A16-C0C670D5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752-D727-42A6-935D-23F31F2E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97F5E-1333-4C2B-9B7B-E67CD2AB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3CC64-DC55-4582-B928-D09214AD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193AD-370D-4DBA-B4B5-50FF9B9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3382-6507-41AA-B860-A3F86217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40EB0-B929-46BE-BEA5-E9D158F7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4D4CB-9455-4808-B6EA-74C622E5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1C49A-9507-43C9-BD66-CA39896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FBA-D48F-434E-B4A3-B89D3363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39CE-E555-4476-8E11-AEA23AF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A7AD-9DD3-4DF9-88DF-E6510981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C3B90-4B41-4CCC-A5A5-307674B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32BA6-04D8-471E-9179-AE201C45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FEED6-A0A6-4F72-A75E-B7230926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DBD-8108-4C69-B631-EB1D23B1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4B0-154D-4ACD-ABEF-AC6D1DF1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CCB-07F8-43C1-A6CD-D184DD89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1E79-D1A7-4410-9DD5-28E0BE2C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0FB-9FB3-49B1-8C20-180DE717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1C5D-16C3-4850-AD44-A676292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D51-3274-44EA-94ED-26DE3889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88B-BA0F-4287-9926-FB867BC828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744-6B25-4FDF-A5E9-C1FDA88CE7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aa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00"/>
                </a:solidFill>
                <a:latin typeface="Giddyup Std"/>
              </a:rPr>
              <a:t>A Wonderful Paradise: </a:t>
            </a:r>
            <a:br>
              <a:rPr sz="6600"/>
            </a:br>
            <a:r>
              <a:rPr b="1" lang="en-US" sz="6600" spc="-1" strike="noStrike">
                <a:solidFill>
                  <a:srgbClr val="00ff00"/>
                </a:solidFill>
                <a:latin typeface="Giddyup Std"/>
              </a:rPr>
              <a:t>Barbados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Giddyup Std"/>
              </a:rPr>
              <a:t>By: Tribecca Trav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Giddyup Std"/>
              </a:rPr>
              <a:t>Weather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240" cy="4494960"/>
        </p:xfrm>
        <a:graphic>
          <a:graphicData uri="http://schemas.openxmlformats.org/drawingml/2006/table">
            <a:tbl>
              <a:tblPr/>
              <a:tblGrid>
                <a:gridCol w="2647440"/>
                <a:gridCol w="440640"/>
                <a:gridCol w="441000"/>
                <a:gridCol w="426960"/>
                <a:gridCol w="411480"/>
                <a:gridCol w="470160"/>
                <a:gridCol w="579240"/>
                <a:gridCol w="486000"/>
                <a:gridCol w="471240"/>
                <a:gridCol w="532080"/>
                <a:gridCol w="394920"/>
                <a:gridCol w="471240"/>
                <a:gridCol w="456840"/>
              </a:tblGrid>
              <a:tr h="198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Weather Average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for Barbad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J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Fe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Ap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Ju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Ju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Au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Sep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De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Daily Sunshine (H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12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Temperature (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66ff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Rainfall (inch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 Rounded MT Bold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p:transition spd="slow" advTm="3000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aa00"/>
                </a:solidFill>
                <a:latin typeface="Giddyup Std"/>
              </a:rPr>
              <a:t>That’s All For Now &amp; I Hope You Enjoy this Exotic Getaway!!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Monotype Corsiva"/>
              </a:rPr>
              <a:t>Great Location</a:t>
            </a:r>
            <a:endParaRPr b="0" lang="en-US" sz="60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4800600" cy="4190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aa00"/>
                </a:solidFill>
                <a:latin typeface="Giddyup Std"/>
              </a:rPr>
              <a:t>Beautiful Beaches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</p:spTree>
  </p:cSld>
  <p:transition spd="slow" advTm="3000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Pristina"/>
              </a:rPr>
              <a:t>West Coas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Pristina"/>
              </a:rPr>
              <a:t>Mullins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1376400">
            <a:off x="4190760" y="1981080"/>
            <a:ext cx="38862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Pristina"/>
              </a:rPr>
              <a:t>East Coas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Bathsheba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 </a:t>
            </a: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Great for Picn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Popular Dest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Powerful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Pools in the Reef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cc00"/>
                </a:solidFill>
                <a:latin typeface="Pristina"/>
              </a:rPr>
              <a:t>South Coast</a:t>
            </a:r>
            <a:br>
              <a:rPr sz="4800"/>
            </a:br>
            <a:endParaRPr b="0" lang="en-US" sz="48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Pristina"/>
              </a:rPr>
              <a:t>Sandy Beach/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Pristina"/>
              </a:rPr>
              <a:t>Accr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Pristina"/>
              </a:rPr>
              <a:t>Miami  Be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20076000">
            <a:off x="914400" y="3352680"/>
            <a:ext cx="309708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Pristina"/>
              </a:rPr>
              <a:t>South East Coas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 </a:t>
            </a: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Crane Bea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Lifestyles of the Rich &amp; Famo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aa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Pristina"/>
              </a:rPr>
              <a:t>This is the most popular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33920" y="304920"/>
            <a:ext cx="1761840" cy="180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Giddyup Std"/>
              </a:rPr>
              <a:t>Activities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Scuba Di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Swimming with Dolphins, Whales, &amp; Tur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Numerous of Elaborate Hotels &amp; Restaur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Many Exciting C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00ff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ristina"/>
              </a:rPr>
              <a:t>View the islands on “Cherry Tree Hill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1359600">
            <a:off x="7009920" y="304560"/>
            <a:ext cx="1857600" cy="1523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 rot="19868400">
            <a:off x="228600" y="228600"/>
            <a:ext cx="1857240" cy="1523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 rot="2268000">
            <a:off x="7286760" y="4952880"/>
            <a:ext cx="185724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0:04:53Z</dcterms:created>
  <dc:creator>Preferred Customer</dc:creator>
  <dc:description/>
  <dc:language>en-US</dc:language>
  <cp:lastModifiedBy>809277</cp:lastModifiedBy>
  <dcterms:modified xsi:type="dcterms:W3CDTF">2009-01-23T17:15:22Z</dcterms:modified>
  <cp:revision>5</cp:revision>
  <dc:subject/>
  <dc:title>Acapulco</dc:title>
</cp:coreProperties>
</file>